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364-B4DF-4B6A-9548-BC042220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1B7-93BF-4E6A-BAB9-37D61DCE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BED-1F32-47EC-B4B7-1716F8E2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FF7-F024-4469-A196-7EA90E02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D13-A082-40A3-914E-8476FF8F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5AA-A756-4924-9C5B-2737D6CC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A0C-97A4-421E-8B15-BBFA3D5A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8F5-29DC-4F94-AE20-C3AC70A2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464-EAB0-4520-9314-08C1E0CB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F0A-350E-4FE1-84EB-1835ABE5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8A5-53F5-4EEA-9D9C-F97C6280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693-D07D-4DDF-944A-DC6622EE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08E2-5970-49B9-8D19-A0BC5EAD9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 Náš Bože sláv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Bože sláv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mocný náš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áhy si hviezd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vostným vymer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gavým lesk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 ti vzdáva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kazy vôle tvojej spĺň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dávnych či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ľud svoj viedol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ľavou púš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diaľnym konči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dlivým strážc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siaľ si aj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o stál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moc tvoja chráň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loba chce oheň skaz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ás zv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rákavou prikr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hasnúť svetlo hviez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er, Pane, vr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lom vládu hriechu v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trapy mier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do ríše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úžení vier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ebe kotviť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si spása naša jedin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u, čo dávaš dosia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u zn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, Pane, pomô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zvestov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48:36Z</dcterms:modified>
  <cp:revision>21</cp:revision>
  <dc:subject/>
  <dc:title>Je veľký náš Pán, on slávy je Kráľ Nech do všetkých strán  spev vrúcnych znie chvál.</dc:title>
</cp:coreProperties>
</file>